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A8B-3A75-4F12-A5A3-44956879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238-6C54-445B-8F7F-8A5584B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403-AE64-4984-8497-EDF8221A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78C-A8BB-4047-85C2-B5872AEB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5521-B5F8-465A-A464-DB9F4458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6E6A-35D2-41CA-B708-B265F7B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40A4-9FCE-4BB0-AC6C-014611ED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37C7-4AE0-4A13-BCE2-58FEAF78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AEDD-450F-42D5-9AC4-7F28765E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F860-4408-4F68-B0C8-86F2CF5E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D45-7310-4B89-8F05-32C1659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FC8-2068-43FE-AF47-F9C70BBB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E9A5-B5C1-4481-B0E2-E585828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24DC-34E4-422B-A923-2C6AD7C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FBF6-D6F4-4C43-AC6C-46CFC7CE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2930-A993-448D-905A-505D5BC5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6C55-62A8-4D9D-AB1D-6B1A0A4A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6FC-8271-44B3-90F8-6A5462A5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C3E-6072-4B35-9AAB-D9351313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76F-1CD3-46E4-81C0-5A6CC643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AF3-3D03-413F-9C0C-40692380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3F1-58E4-4569-9282-9ED6069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9E0-94D9-4075-8C90-357C0D22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F72-8577-4315-B3DF-74B5822E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69C5-60B2-44B7-AC53-B3AE9AAEC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3CB9-E78C-473C-B2C8-6FD556B34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y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bout An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a is my friend she is nice she like’s to swim just like me 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NA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a IS REALLY PRITY 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4:51:16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2-01-24T15:00:13Z</dcterms:modified>
  <cp:revision>2</cp:revision>
  <dc:subject/>
  <dc:title>Anna</dc:title>
</cp:coreProperties>
</file>